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1907-6DBF-4FBB-96AB-F1DB222B5E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5554-A9C0-4F62-8351-15ABDE9AEF7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四则混合运算（二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267000" y="3429000"/>
            <a:ext cx="54086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051000" y="262584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含有中括号的四则运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889280" y="2997360"/>
            <a:ext cx="441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[113-(34.15+38.25)]÷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[113-72.4]÷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40.6÷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0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258920" y="2625840"/>
            <a:ext cx="68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十一”黄金周期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城旅行社共收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2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阳光旅行社共收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7.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。黄金周期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城旅行社平均每天比阳光旅行社多收入多少万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1"/>
          <p:cNvSpPr/>
          <p:nvPr/>
        </p:nvSpPr>
        <p:spPr>
          <a:xfrm>
            <a:off x="1247760" y="2997360"/>
            <a:ext cx="6985080" cy="9471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山城旅行社平均每天比阳光旅行社多收入多少万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先求出黄金周期间山城旅行社比阳光旅行社多收入多少万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除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1514520" y="3141720"/>
            <a:ext cx="600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52.5-47.6)÷7=0.7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城旅行社平均每天比阳光旅行社多收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29400" y="811080"/>
            <a:ext cx="2114640" cy="2033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62" name="矩形 10"/>
          <p:cNvSpPr/>
          <p:nvPr/>
        </p:nvSpPr>
        <p:spPr>
          <a:xfrm>
            <a:off x="1550880" y="1760400"/>
            <a:ext cx="54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四则混合运算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都是先算乘除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算加减法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"/>
          <p:cNvSpPr/>
          <p:nvPr/>
        </p:nvSpPr>
        <p:spPr>
          <a:xfrm rot="18297600">
            <a:off x="6242040" y="414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628560" y="4734000"/>
            <a:ext cx="1844640" cy="1431720"/>
          </a:xfrm>
          <a:prstGeom prst="rect">
            <a:avLst/>
          </a:prstGeom>
          <a:ln w="0">
            <a:noFill/>
          </a:ln>
        </p:spPr>
      </p:pic>
      <p:sp>
        <p:nvSpPr>
          <p:cNvPr id="167" name="矩形 2"/>
          <p:cNvSpPr/>
          <p:nvPr/>
        </p:nvSpPr>
        <p:spPr>
          <a:xfrm>
            <a:off x="5248440" y="2232000"/>
            <a:ext cx="7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28560" y="4734000"/>
            <a:ext cx="1844640" cy="14317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10"/>
          <p:cNvSpPr/>
          <p:nvPr/>
        </p:nvSpPr>
        <p:spPr>
          <a:xfrm>
            <a:off x="755640" y="18097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174" name="矩形 19"/>
          <p:cNvSpPr/>
          <p:nvPr/>
        </p:nvSpPr>
        <p:spPr>
          <a:xfrm>
            <a:off x="1042920" y="270828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没有明白四则混合运算的运算顺序。在四则混合运算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只有加、减、乘、除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乘除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算加减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有括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小括号里面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算中括号里面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后算括号外面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78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15"/>
          <p:cNvSpPr/>
          <p:nvPr/>
        </p:nvSpPr>
        <p:spPr>
          <a:xfrm rot="18297600">
            <a:off x="6940440" y="46926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20"/>
          <p:cNvSpPr/>
          <p:nvPr/>
        </p:nvSpPr>
        <p:spPr>
          <a:xfrm rot="18297600">
            <a:off x="7100640" y="25725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0"/>
          <p:cNvSpPr/>
          <p:nvPr/>
        </p:nvSpPr>
        <p:spPr>
          <a:xfrm>
            <a:off x="1550880" y="1760400"/>
            <a:ext cx="54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四则混合运算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都是先算乘除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算加减法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4"/>
          <p:cNvSpPr/>
          <p:nvPr/>
        </p:nvSpPr>
        <p:spPr>
          <a:xfrm>
            <a:off x="5248440" y="2232000"/>
            <a:ext cx="7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6"/>
          <p:cNvSpPr/>
          <p:nvPr/>
        </p:nvSpPr>
        <p:spPr>
          <a:xfrm>
            <a:off x="1449360" y="3925800"/>
            <a:ext cx="54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四则混合运算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都是先算乘除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算加减法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7"/>
          <p:cNvSpPr/>
          <p:nvPr/>
        </p:nvSpPr>
        <p:spPr>
          <a:xfrm>
            <a:off x="5146560" y="439740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60"/>
          <p:cNvSpPr/>
          <p:nvPr/>
        </p:nvSpPr>
        <p:spPr>
          <a:xfrm>
            <a:off x="938160" y="1596960"/>
            <a:ext cx="729468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计算下面各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     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61×[58-(18+3)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100×[(48-15)÷3]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1908000" y="2746440"/>
            <a:ext cx="4029120" cy="12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=61×[58-2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=61×3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=225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同侧圆角矩形 19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1692360" y="4546440"/>
            <a:ext cx="4029120" cy="12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=100×[33÷3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=100×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=1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60"/>
          <p:cNvSpPr/>
          <p:nvPr/>
        </p:nvSpPr>
        <p:spPr>
          <a:xfrm>
            <a:off x="1042920" y="1862280"/>
            <a:ext cx="691380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根据要求添加合适的括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(1)   36+24 ÷25-18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先加、再除、后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(2)  320÷ 5× 26-18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先减、再乘、后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同侧圆角矩形 17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1360440" y="3138480"/>
            <a:ext cx="24195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2617920" y="4689360"/>
            <a:ext cx="2323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[                 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3100320" y="4689360"/>
            <a:ext cx="24177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920880" y="1579680"/>
            <a:ext cx="73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果园里的苹果树和桃树共有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84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棵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其中苹果树有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行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每行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24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棵。如果桃树比苹果树多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行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平均每行有多少棵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同侧圆角矩形 46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31" descr="男孩1"/>
          <p:cNvPicPr/>
          <p:nvPr/>
        </p:nvPicPr>
        <p:blipFill>
          <a:blip r:embed="rId1"/>
          <a:stretch/>
        </p:blipFill>
        <p:spPr>
          <a:xfrm>
            <a:off x="7481880" y="479916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27"/>
          <p:cNvSpPr/>
          <p:nvPr/>
        </p:nvSpPr>
        <p:spPr>
          <a:xfrm>
            <a:off x="3492360" y="5230800"/>
            <a:ext cx="3387960" cy="719280"/>
          </a:xfrm>
          <a:prstGeom prst="wedgeRoundRectCallout">
            <a:avLst>
              <a:gd name="adj1" fmla="val 59189"/>
              <a:gd name="adj2" fmla="val 1423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桃树的棵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2195640" y="3255840"/>
            <a:ext cx="496872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40-15×24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+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40-36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480÷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24(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棵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808200" y="300996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道四则运算的意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会正确计算四则混合运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808200" y="1773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含有中括号的混合运算的运算顺序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会正确计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808200" y="42102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解决问题的过程中，能进行有条理的思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3"/>
          <p:cNvSpPr/>
          <p:nvPr/>
        </p:nvSpPr>
        <p:spPr>
          <a:xfrm>
            <a:off x="1068480" y="1557360"/>
            <a:ext cx="695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农业机械厂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煤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经烧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均每天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。剩下的煤如果每天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可以烧多少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14" descr="男孩1"/>
          <p:cNvPicPr/>
          <p:nvPr/>
        </p:nvPicPr>
        <p:blipFill>
          <a:blip r:embed="rId1"/>
          <a:stretch/>
        </p:blipFill>
        <p:spPr>
          <a:xfrm>
            <a:off x="7093080" y="4724280"/>
            <a:ext cx="1616040" cy="179892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27"/>
          <p:cNvSpPr/>
          <p:nvPr/>
        </p:nvSpPr>
        <p:spPr>
          <a:xfrm>
            <a:off x="3492360" y="5078520"/>
            <a:ext cx="3329280" cy="69840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出剩下的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同侧圆角矩形 8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2411280" y="3062160"/>
            <a:ext cx="489744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9-16×1.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1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9-19.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1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9.8÷1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8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天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5"/>
          <p:cNvSpPr/>
          <p:nvPr/>
        </p:nvSpPr>
        <p:spPr>
          <a:xfrm>
            <a:off x="927000" y="1557360"/>
            <a:ext cx="69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工程队挖一条水渠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计划每天挖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24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天完成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实际提前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天完成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实际平均每天挖多少米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同侧圆角矩形 6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1"/>
          <p:cNvGrpSpPr/>
          <p:nvPr/>
        </p:nvGrpSpPr>
        <p:grpSpPr>
          <a:xfrm>
            <a:off x="831960" y="4919760"/>
            <a:ext cx="5035320" cy="1938240"/>
            <a:chOff x="831960" y="4919760"/>
            <a:chExt cx="5035320" cy="1938240"/>
          </a:xfrm>
        </p:grpSpPr>
        <p:pic>
          <p:nvPicPr>
            <p:cNvPr id="215" name="Picture 13" descr="男孩2"/>
            <p:cNvPicPr/>
            <p:nvPr/>
          </p:nvPicPr>
          <p:blipFill>
            <a:blip r:embed="rId1"/>
            <a:stretch/>
          </p:blipFill>
          <p:spPr>
            <a:xfrm>
              <a:off x="831960" y="5057640"/>
              <a:ext cx="11952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AutoShape 27"/>
            <p:cNvSpPr/>
            <p:nvPr/>
          </p:nvSpPr>
          <p:spPr>
            <a:xfrm>
              <a:off x="2195280" y="4919760"/>
              <a:ext cx="3672000" cy="936720"/>
            </a:xfrm>
            <a:prstGeom prst="wedgeRoundRectCallout">
              <a:avLst>
                <a:gd name="adj1" fmla="val -56157"/>
                <a:gd name="adj2" fmla="val 1440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算出水渠的总长度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2195640" y="3090960"/>
            <a:ext cx="453708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×24÷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4-4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2400÷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2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22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AutoShape 27"/>
          <p:cNvSpPr/>
          <p:nvPr/>
        </p:nvSpPr>
        <p:spPr>
          <a:xfrm>
            <a:off x="5580000" y="968400"/>
            <a:ext cx="2965680" cy="2100240"/>
          </a:xfrm>
          <a:prstGeom prst="wedgeRoundRectCallout">
            <a:avLst>
              <a:gd name="adj1" fmla="val -58361"/>
              <a:gd name="adj2" fmla="val 1314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含有中括号的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要先算小括号里面的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再算中括号里面的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最后算中括号外面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c1c1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Group 23"/>
          <p:cNvGrpSpPr/>
          <p:nvPr/>
        </p:nvGrpSpPr>
        <p:grpSpPr>
          <a:xfrm>
            <a:off x="3132000" y="1557360"/>
            <a:ext cx="2448000" cy="1871640"/>
            <a:chOff x="3132000" y="1557360"/>
            <a:chExt cx="2448000" cy="1871640"/>
          </a:xfrm>
        </p:grpSpPr>
        <p:pic>
          <p:nvPicPr>
            <p:cNvPr id="226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285800" y="1557360"/>
              <a:ext cx="129420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132000" y="1686240"/>
              <a:ext cx="128556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矩形 21"/>
          <p:cNvSpPr/>
          <p:nvPr/>
        </p:nvSpPr>
        <p:spPr>
          <a:xfrm>
            <a:off x="615960" y="3429000"/>
            <a:ext cx="7891560" cy="520560"/>
          </a:xfrm>
          <a:prstGeom prst="rect">
            <a:avLst/>
          </a:prstGeom>
          <a:solidFill>
            <a:srgbClr val="ff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则混合运算中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只有加减法或只有乘除法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要按照从左到右的顺序计算。既有加减法又有乘除法的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要先算乘除法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算加减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13"/>
          <p:cNvSpPr/>
          <p:nvPr/>
        </p:nvSpPr>
        <p:spPr>
          <a:xfrm>
            <a:off x="652320" y="5013360"/>
            <a:ext cx="7893360" cy="947160"/>
          </a:xfrm>
          <a:prstGeom prst="rect">
            <a:avLst/>
          </a:prstGeom>
          <a:solidFill>
            <a:srgbClr val="6dff44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含有小括号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要先算小括号里面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算小括号外面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小括号中如果既有加减法又有乘除法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要先算乘除法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算加减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116000" y="1773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一说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题的运算顺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401840" y="2759040"/>
            <a:ext cx="35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+8×2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53200" y="2684520"/>
            <a:ext cx="30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+(8×23-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533600" y="4889520"/>
            <a:ext cx="33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8-(424÷4-2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1509840" y="3736800"/>
            <a:ext cx="31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600÷3+12)×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5600880" y="4889520"/>
            <a:ext cx="30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78+78×2)-6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932360" y="3686040"/>
            <a:ext cx="36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×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30÷9÷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5"/>
          <p:cNvSpPr/>
          <p:nvPr/>
        </p:nvSpPr>
        <p:spPr>
          <a:xfrm>
            <a:off x="2666880" y="3316320"/>
            <a:ext cx="1067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16"/>
          <p:cNvSpPr/>
          <p:nvPr/>
        </p:nvSpPr>
        <p:spPr>
          <a:xfrm>
            <a:off x="6229440" y="326232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1866960" y="440532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8"/>
          <p:cNvSpPr/>
          <p:nvPr/>
        </p:nvSpPr>
        <p:spPr>
          <a:xfrm>
            <a:off x="6073920" y="4322880"/>
            <a:ext cx="1377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19"/>
          <p:cNvSpPr/>
          <p:nvPr/>
        </p:nvSpPr>
        <p:spPr>
          <a:xfrm>
            <a:off x="2476440" y="5473800"/>
            <a:ext cx="1447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20"/>
          <p:cNvSpPr/>
          <p:nvPr/>
        </p:nvSpPr>
        <p:spPr>
          <a:xfrm>
            <a:off x="6467400" y="5475240"/>
            <a:ext cx="1233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同侧圆角矩形 21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2"/>
          <p:cNvSpPr/>
          <p:nvPr/>
        </p:nvSpPr>
        <p:spPr>
          <a:xfrm>
            <a:off x="1079640" y="1415880"/>
            <a:ext cx="734364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纸箱中装满了大小相同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花皮球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绿皮球。现在要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这样的皮球装在同样的纸箱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需要多少个纸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72" descr="女孩2"/>
          <p:cNvPicPr/>
          <p:nvPr/>
        </p:nvPicPr>
        <p:blipFill>
          <a:blip r:embed="rId1"/>
          <a:stretch/>
        </p:blipFill>
        <p:spPr>
          <a:xfrm>
            <a:off x="250920" y="4908600"/>
            <a:ext cx="1431720" cy="18000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27"/>
          <p:cNvSpPr/>
          <p:nvPr/>
        </p:nvSpPr>
        <p:spPr>
          <a:xfrm>
            <a:off x="1706400" y="5175360"/>
            <a:ext cx="2679840" cy="934920"/>
          </a:xfrm>
          <a:prstGeom prst="wedgeRoundRectCallout">
            <a:avLst>
              <a:gd name="adj1" fmla="val -61388"/>
              <a:gd name="adj2" fmla="val -2215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知道了哪些数学信息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" descr="C:\Users\Administrator\AppData\Roaming\Tencent\Users\781547643\QQ\WinTemp\RichOle\XE_51N74@2DM9DV~JUBPRBO.png"/>
          <p:cNvPicPr/>
          <p:nvPr/>
        </p:nvPicPr>
        <p:blipFill>
          <a:blip r:embed="rId2"/>
          <a:stretch/>
        </p:blipFill>
        <p:spPr>
          <a:xfrm>
            <a:off x="927000" y="2909880"/>
            <a:ext cx="76485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2" descr="女孩2"/>
          <p:cNvPicPr/>
          <p:nvPr/>
        </p:nvPicPr>
        <p:blipFill>
          <a:blip r:embed="rId1"/>
          <a:stretch/>
        </p:blipFill>
        <p:spPr>
          <a:xfrm>
            <a:off x="299880" y="1616040"/>
            <a:ext cx="1432080" cy="180036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27"/>
          <p:cNvSpPr/>
          <p:nvPr/>
        </p:nvSpPr>
        <p:spPr>
          <a:xfrm>
            <a:off x="1731960" y="1649520"/>
            <a:ext cx="2963880" cy="934920"/>
          </a:xfrm>
          <a:prstGeom prst="wedgeRoundRectCallout">
            <a:avLst>
              <a:gd name="adj1" fmla="val -61388"/>
              <a:gd name="adj2" fmla="val -2215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每个纸箱装了多少个皮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4859280" y="2708280"/>
            <a:ext cx="31892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468÷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[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(72+32)÷4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=468÷[104÷4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=468÷2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8(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3" descr="男孩1"/>
          <p:cNvPicPr/>
          <p:nvPr/>
        </p:nvPicPr>
        <p:blipFill>
          <a:blip r:embed="rId2"/>
          <a:stretch/>
        </p:blipFill>
        <p:spPr>
          <a:xfrm>
            <a:off x="7527960" y="121752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7"/>
          <p:cNvSpPr/>
          <p:nvPr/>
        </p:nvSpPr>
        <p:spPr>
          <a:xfrm>
            <a:off x="4984920" y="1395360"/>
            <a:ext cx="2334960" cy="954000"/>
          </a:xfrm>
          <a:prstGeom prst="wedgeRoundRectCallout">
            <a:avLst>
              <a:gd name="adj1" fmla="val 67462"/>
              <a:gd name="adj2" fmla="val -793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成一个算式要用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中括号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1671480" y="3016080"/>
            <a:ext cx="31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(72+32)÷4=26(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468÷26=18(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13"/>
          <p:cNvSpPr/>
          <p:nvPr/>
        </p:nvSpPr>
        <p:spPr>
          <a:xfrm>
            <a:off x="4986360" y="454356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需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纸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2"/>
          <p:cNvSpPr/>
          <p:nvPr/>
        </p:nvSpPr>
        <p:spPr>
          <a:xfrm>
            <a:off x="703440" y="5445000"/>
            <a:ext cx="7953120" cy="460440"/>
          </a:xfrm>
          <a:prstGeom prst="rect">
            <a:avLst/>
          </a:prstGeom>
          <a:solidFill>
            <a:srgbClr val="4f81b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一个算式里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如果既有小括号又有中括号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要先算小括号里面的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算中括号里面的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最后算括号外面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44"/>
          <p:cNvGrpSpPr/>
          <p:nvPr/>
        </p:nvGrpSpPr>
        <p:grpSpPr>
          <a:xfrm>
            <a:off x="220680" y="3879720"/>
            <a:ext cx="3703320" cy="1800360"/>
            <a:chOff x="220680" y="3879720"/>
            <a:chExt cx="3703320" cy="1800360"/>
          </a:xfrm>
        </p:grpSpPr>
        <p:pic>
          <p:nvPicPr>
            <p:cNvPr id="90" name="Picture 45" descr="女孩1"/>
            <p:cNvPicPr/>
            <p:nvPr/>
          </p:nvPicPr>
          <p:blipFill>
            <a:blip r:embed="rId3"/>
            <a:stretch/>
          </p:blipFill>
          <p:spPr>
            <a:xfrm>
              <a:off x="220680" y="3879720"/>
              <a:ext cx="115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AutoShape 27"/>
            <p:cNvSpPr/>
            <p:nvPr/>
          </p:nvSpPr>
          <p:spPr>
            <a:xfrm>
              <a:off x="1275120" y="4010040"/>
              <a:ext cx="2648880" cy="1292040"/>
            </a:xfrm>
            <a:prstGeom prst="wedgeRoundRectCallout">
              <a:avLst>
                <a:gd name="adj1" fmla="val -55861"/>
                <a:gd name="adj2" fmla="val -1805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加法、减法、乘法和除法统称为四则运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2"/>
          <p:cNvSpPr/>
          <p:nvPr/>
        </p:nvSpPr>
        <p:spPr>
          <a:xfrm>
            <a:off x="2340000" y="1673280"/>
            <a:ext cx="42130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6÷(1.2+0.5)×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1138320" y="5445000"/>
            <a:ext cx="6818400" cy="521280"/>
          </a:xfrm>
          <a:prstGeom prst="rect">
            <a:avLst/>
          </a:prstGeom>
          <a:solidFill>
            <a:srgbClr val="7030a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四则混合运算过程中，遇到除法的商的小数位数较多时，一般保留两位小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2863800" y="2890800"/>
            <a:ext cx="3600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3.6÷(1.2+0.5)×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=3.6÷1.7×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72" descr="女孩2"/>
          <p:cNvPicPr/>
          <p:nvPr/>
        </p:nvPicPr>
        <p:blipFill>
          <a:blip r:embed="rId1"/>
          <a:stretch/>
        </p:blipFill>
        <p:spPr>
          <a:xfrm>
            <a:off x="-1440" y="2536920"/>
            <a:ext cx="1431720" cy="1800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27"/>
          <p:cNvSpPr/>
          <p:nvPr/>
        </p:nvSpPr>
        <p:spPr>
          <a:xfrm>
            <a:off x="1298520" y="2209680"/>
            <a:ext cx="4091040" cy="552600"/>
          </a:xfrm>
          <a:prstGeom prst="wedgeRoundRectCallout">
            <a:avLst>
              <a:gd name="adj1" fmla="val -54402"/>
              <a:gd name="adj2" fmla="val 109874"/>
              <a:gd name="adj3" fmla="val 16667"/>
            </a:avLst>
          </a:prstGeom>
          <a:solidFill>
            <a:srgbClr val="ffff00">
              <a:alpha val="55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6÷1.7=2.1176470588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接连接符 3"/>
          <p:cNvSpPr/>
          <p:nvPr/>
        </p:nvSpPr>
        <p:spPr>
          <a:xfrm>
            <a:off x="3301920" y="3905280"/>
            <a:ext cx="131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2941560" y="4025880"/>
            <a:ext cx="27925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≈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2.12×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=12.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3" descr="男孩1"/>
          <p:cNvPicPr/>
          <p:nvPr/>
        </p:nvPicPr>
        <p:blipFill>
          <a:blip r:embed="rId2"/>
          <a:stretch/>
        </p:blipFill>
        <p:spPr>
          <a:xfrm>
            <a:off x="7612200" y="378468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27"/>
          <p:cNvSpPr/>
          <p:nvPr/>
        </p:nvSpPr>
        <p:spPr>
          <a:xfrm>
            <a:off x="5322960" y="3606840"/>
            <a:ext cx="2268360" cy="93960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0000">
              <a:alpha val="2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般保留两位小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72" descr="女孩2"/>
          <p:cNvPicPr/>
          <p:nvPr/>
        </p:nvPicPr>
        <p:blipFill>
          <a:blip r:embed="rId1"/>
          <a:stretch/>
        </p:blipFill>
        <p:spPr>
          <a:xfrm>
            <a:off x="52560" y="1954080"/>
            <a:ext cx="1431720" cy="18003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27"/>
          <p:cNvSpPr/>
          <p:nvPr/>
        </p:nvSpPr>
        <p:spPr>
          <a:xfrm>
            <a:off x="1503360" y="1954080"/>
            <a:ext cx="2994120" cy="1366920"/>
          </a:xfrm>
          <a:prstGeom prst="wedgeRoundRectCallout">
            <a:avLst>
              <a:gd name="adj1" fmla="val -61388"/>
              <a:gd name="adj2" fmla="val -22157"/>
              <a:gd name="adj3" fmla="val 16667"/>
            </a:avLst>
          </a:prstGeom>
          <a:solidFill>
            <a:srgbClr val="00b050">
              <a:alpha val="14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有加减法或乘除法时，按从左到右的顺序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3" descr="男孩1"/>
          <p:cNvPicPr/>
          <p:nvPr/>
        </p:nvPicPr>
        <p:blipFill>
          <a:blip r:embed="rId2"/>
          <a:stretch/>
        </p:blipFill>
        <p:spPr>
          <a:xfrm>
            <a:off x="7110360" y="242244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27"/>
          <p:cNvSpPr/>
          <p:nvPr/>
        </p:nvSpPr>
        <p:spPr>
          <a:xfrm>
            <a:off x="4597560" y="2089080"/>
            <a:ext cx="2493720" cy="1700280"/>
          </a:xfrm>
          <a:prstGeom prst="wedgeRoundRectCallout">
            <a:avLst>
              <a:gd name="adj1" fmla="val 62490"/>
              <a:gd name="adj2" fmla="val 233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既有加减法也有乘除法时，先算乘法法，后算加减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3"/>
          <p:cNvGrpSpPr/>
          <p:nvPr/>
        </p:nvGrpSpPr>
        <p:grpSpPr>
          <a:xfrm>
            <a:off x="4356000" y="4017960"/>
            <a:ext cx="4521240" cy="2098800"/>
            <a:chOff x="4356000" y="4017960"/>
            <a:chExt cx="4521240" cy="2098800"/>
          </a:xfrm>
        </p:grpSpPr>
        <p:pic>
          <p:nvPicPr>
            <p:cNvPr id="110" name="Picture 100" descr="81"/>
            <p:cNvPicPr/>
            <p:nvPr/>
          </p:nvPicPr>
          <p:blipFill>
            <a:blip r:embed="rId3"/>
            <a:stretch/>
          </p:blipFill>
          <p:spPr>
            <a:xfrm>
              <a:off x="7614000" y="4316760"/>
              <a:ext cx="12632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AutoShape 27"/>
            <p:cNvSpPr/>
            <p:nvPr/>
          </p:nvSpPr>
          <p:spPr>
            <a:xfrm>
              <a:off x="4356000" y="4017960"/>
              <a:ext cx="3188880" cy="169200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含有中括号的</a:t>
              </a:r>
              <a:r>
                <a:rPr b="0" lang="en-US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要先算小括号里面的</a:t>
              </a:r>
              <a:r>
                <a:rPr b="0" lang="en-US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再算中括号里面的</a:t>
              </a:r>
              <a:r>
                <a:rPr b="0" lang="en-US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最后算中括号外面的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组合 2"/>
          <p:cNvGrpSpPr/>
          <p:nvPr/>
        </p:nvGrpSpPr>
        <p:grpSpPr>
          <a:xfrm>
            <a:off x="325440" y="3670200"/>
            <a:ext cx="4030560" cy="2044800"/>
            <a:chOff x="325440" y="3670200"/>
            <a:chExt cx="4030560" cy="2044800"/>
          </a:xfrm>
        </p:grpSpPr>
        <p:pic>
          <p:nvPicPr>
            <p:cNvPr id="113" name="Picture 45" descr="女孩1"/>
            <p:cNvPicPr/>
            <p:nvPr/>
          </p:nvPicPr>
          <p:blipFill>
            <a:blip r:embed="rId4"/>
            <a:stretch/>
          </p:blipFill>
          <p:spPr>
            <a:xfrm>
              <a:off x="325440" y="3913920"/>
              <a:ext cx="1150560" cy="18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AutoShape 27"/>
            <p:cNvSpPr/>
            <p:nvPr/>
          </p:nvSpPr>
          <p:spPr>
            <a:xfrm>
              <a:off x="1476000" y="3670200"/>
              <a:ext cx="2880000" cy="1292760"/>
            </a:xfrm>
            <a:prstGeom prst="wedgeRoundRectCallout">
              <a:avLst>
                <a:gd name="adj1" fmla="val -55861"/>
                <a:gd name="adj2" fmla="val -1805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含有小括号的</a:t>
              </a:r>
              <a:r>
                <a:rPr b="0" lang="en-US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要先算小括号里面的</a:t>
              </a:r>
              <a:r>
                <a:rPr b="0" lang="en-US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再算小括号外面的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组合 1"/>
          <p:cNvGrpSpPr/>
          <p:nvPr/>
        </p:nvGrpSpPr>
        <p:grpSpPr>
          <a:xfrm>
            <a:off x="3160800" y="752400"/>
            <a:ext cx="5076720" cy="1800360"/>
            <a:chOff x="3160800" y="752400"/>
            <a:chExt cx="5076720" cy="1800360"/>
          </a:xfrm>
        </p:grpSpPr>
        <p:sp>
          <p:nvSpPr>
            <p:cNvPr id="116" name="圆角矩形标注 21"/>
            <p:cNvSpPr/>
            <p:nvPr/>
          </p:nvSpPr>
          <p:spPr>
            <a:xfrm>
              <a:off x="3160800" y="924480"/>
              <a:ext cx="3456000" cy="864000"/>
            </a:xfrm>
            <a:prstGeom prst="wedgeRoundRectCallout">
              <a:avLst>
                <a:gd name="adj1" fmla="val 70666"/>
                <a:gd name="adj2" fmla="val 15138"/>
                <a:gd name="adj3" fmla="val 16667"/>
              </a:avLst>
            </a:prstGeom>
            <a:solidFill>
              <a:srgbClr val="ff0000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起总结四则混合运算的运算顺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7" name="Picture 35" descr="42"/>
            <p:cNvPicPr/>
            <p:nvPr/>
          </p:nvPicPr>
          <p:blipFill>
            <a:blip r:embed="rId5"/>
            <a:stretch/>
          </p:blipFill>
          <p:spPr>
            <a:xfrm flipH="1">
              <a:off x="6437520" y="752400"/>
              <a:ext cx="180000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组合 4"/>
          <p:cNvGrpSpPr/>
          <p:nvPr/>
        </p:nvGrpSpPr>
        <p:grpSpPr>
          <a:xfrm>
            <a:off x="11160" y="5273640"/>
            <a:ext cx="4629240" cy="1279440"/>
            <a:chOff x="11160" y="5273640"/>
            <a:chExt cx="4629240" cy="1279440"/>
          </a:xfrm>
        </p:grpSpPr>
        <p:pic>
          <p:nvPicPr>
            <p:cNvPr id="119" name="Picture 19" descr="女天使副本"/>
            <p:cNvPicPr/>
            <p:nvPr/>
          </p:nvPicPr>
          <p:blipFill>
            <a:blip r:embed="rId6"/>
            <a:stretch/>
          </p:blipFill>
          <p:spPr>
            <a:xfrm>
              <a:off x="11160" y="527364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AutoShape 27"/>
            <p:cNvSpPr/>
            <p:nvPr/>
          </p:nvSpPr>
          <p:spPr>
            <a:xfrm>
              <a:off x="1445400" y="5625000"/>
              <a:ext cx="3195000" cy="576360"/>
            </a:xfrm>
            <a:prstGeom prst="wedgeRoundRectCallout">
              <a:avLst>
                <a:gd name="adj1" fmla="val -57476"/>
                <a:gd name="adj2" fmla="val 5097"/>
                <a:gd name="adj3" fmla="val 16667"/>
              </a:avLst>
            </a:prstGeom>
            <a:solidFill>
              <a:srgbClr val="7030a0">
                <a:alpha val="25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乘或除任何数都得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739880" y="264168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[113-(34.15+38.25)]÷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8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1"/>
          <p:cNvSpPr/>
          <p:nvPr/>
        </p:nvSpPr>
        <p:spPr>
          <a:xfrm>
            <a:off x="1255680" y="3068640"/>
            <a:ext cx="6985080" cy="5205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一个算式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有中括号和小括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先算小括号里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算中括号里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0:30:33Z</dcterms:created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11:16:03Z</dcterms:modified>
  <cp:revision>308</cp:revision>
  <dc:subject>www.xkb1.com</dc:subject>
  <dc:title>www.xkb1.com</dc:title>
</cp:coreProperties>
</file>